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22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4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3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A8A-DBA6-4D50-A9EA-AA460EE2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156-F6DF-4841-96DC-1E0B870F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7FF-8B8E-42B5-82CE-8AECFFD8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D75-7147-448D-AA77-D1E78BC4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228E-9002-47A4-B4FC-7E6CE592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6C97-F654-4D8D-B1C1-E0E0D77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0DAD3-EE04-49EC-8866-4DFB290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559AE-60DC-47F6-AD6E-42CCA3F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FA95-8EEA-49E6-93F3-F867770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27BA-7506-4315-A292-6AF437C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81F2-8945-4F22-8181-C2B84AE6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6AE-1425-4150-BF6A-71A0E46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BCC5-41F5-4A0E-8971-550F4FB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45885-44B3-45CE-BEB4-81DD7B5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A740-C91C-4FA9-9D3A-71F9E6C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807DD-829F-4AAD-9B5C-BE721C2E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9625E-96C8-45CD-8FDF-43F61B97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922-627F-44CF-939A-9CF64B1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9DE-E3FE-498D-A684-B9CAAFEB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589-3B6F-49D7-A6F9-ACEE7F3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712-5721-4E3B-880B-E7312B1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3AC-1A7C-4FB0-A2C7-A880B93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BAC-8204-4AB2-BFFB-FEE3E4C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BB3-021B-4EAE-B45F-9BA6B31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138F-60EC-4716-8331-8C4E46331C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A1D3-CD68-473C-A573-57E57B33C08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5.png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385776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66840" y="2133720"/>
            <a:ext cx="69721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63640" y="4365720"/>
            <a:ext cx="648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----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父母情 养育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213372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与尊重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1304800">
            <a:off x="2050560" y="1628280"/>
            <a:ext cx="507960" cy="4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21304800">
            <a:off x="2987640" y="1915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 rot="21304800">
            <a:off x="6732720" y="4005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 rot="21304800">
            <a:off x="4572000" y="544464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 rot="21304800">
            <a:off x="2050920" y="609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 rot="21304800">
            <a:off x="8172360" y="14839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 rot="16200000">
            <a:off x="4716360" y="458100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 rot="416400">
            <a:off x="2195640" y="3715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 rot="416400">
            <a:off x="5003640" y="2060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 rot="416400">
            <a:off x="8244000" y="278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 rot="416400">
            <a:off x="831708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 rot="18628800">
            <a:off x="7740720" y="4723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 rot="416400">
            <a:off x="8639280" y="47239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 rot="416400">
            <a:off x="3924360" y="393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 rot="416400">
            <a:off x="6300720" y="119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 rot="416400">
            <a:off x="3203640" y="33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 rot="21304800">
            <a:off x="6084720" y="5660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 rot="21304800">
            <a:off x="324000" y="3715920"/>
            <a:ext cx="502920" cy="47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 rot="416400">
            <a:off x="39528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 rot="18186600">
            <a:off x="3564000" y="16999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 rot="416400">
            <a:off x="2843280" y="47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 rot="416400">
            <a:off x="611280" y="12679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052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主 题 班 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-45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月，在深圳一家律师事务所工作的田世国，得知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67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岁的母亲刘玉环被确诊为尿毒症晚期，只能做肾脏移植手术，但与其血型相配的肾源非常稀少，费用非常昂贵，而且像刘玉环这样已经年过花甲的老人，肾移植手术的风险更大。母亲刘玉环在得知自己的病情后，为了不拖累儿女，坚决要求放弃治疗。经过血样检查，田世国和妹妹的血型都与母亲相配都适合给母亲捐肾。但医生告诉他们，捐一个肾脏虽然对今后的日常生活不会产生太大影响，可是一旦唯一的肾脏受到损害就危及生命，所以，他让田世国慎重抉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田世国面临这样的选择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听从母亲的意愿放弃治疗，或根据妹妹的请求，同意妹妹捐肾；自己在经济上给予帮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</a:rPr>
              <a:t>将自己的肾捐给母亲，自己不仅在经济上支出较大，而且在身体上、事业上都可能会受到较大的影响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看事例，作选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5445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你以田世国的身份进行选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ahoma"/>
              </a:rPr>
              <a:t>畅想故事结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捐献肾脏后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、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田世国不捐献肾脏，他的生活是……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中央电视台“感动中国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年度人物” 颁奖词是这样写的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谁言寸草心，报得三春晖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?”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这是一个被追问了千年的问题。一个儿子在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年用身体做出了自己的回答，他把生命的一部分回馈给病危的母亲。在温暖的谎话里，母亲的生命也许依然脆弱，但是孝子的真诚已经坚如磐石。田世国，让天下所有的母亲收获慰藉。</a:t>
            </a:r>
            <a:r>
              <a:rPr b="0" lang="zh-CN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3527280" cy="256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88800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-162000"/>
            <a:ext cx="9756720" cy="7080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71640" y="14565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了解父母各个方面（如：爸爸妈妈的工作是什么？辛苦吗？爸爸妈妈最喜欢吃的食物是什么、你了解爸爸妈妈的身体健康状况吗？你爸爸妈妈的生日是哪一天？）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②尊敬父母，对父母有礼貌，听从父母的正确教导，不当面顶撞父母，不和父母发脾气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③生活节俭，无浪费现象，不乱花钱，不向父母提过高要求 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④帮父母做力所能及的家务，减轻父母负担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⑤有心事主动和父母说，经常与父母聊天（多和父母沟通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⑥碰到一些比较重大的事情，要和父母商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征求和认真考虑父母的意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⑦外出时，在征得父母同意后，应把去向和时间告知父母（未成年人保护法）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⑧努力学好各门功课，经常主动向父母汇报自己在学校的学习生活情况，不让父母操心。 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⑨父母亲有做得不对的地方要诚恳的指出（实话实说）。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487440" y="393840"/>
            <a:ext cx="15210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 一 学     做 一 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1160" y="907920"/>
            <a:ext cx="8506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辩一辩    出 误 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21398400">
            <a:off x="1547280" y="1773360"/>
            <a:ext cx="6985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他们的做法对吗</a:t>
            </a: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?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77080" y="4149720"/>
            <a:ext cx="180036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有一位成绩优秀的学生，父　母对他的期望很高，他自己对自己　的要求也很高，每天一回家就马上　学习。最近学校开展孝敬父母的活　动要求学生在家能帮助父母承担一　些家务劳动。但小林却说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:“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学习成　　绩优秀就是孝敬父母，其他都是多　余的。”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②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小刚是一名初一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 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课堂上，老师批评现在社会上一些不赡养父母的错误行为。小明说：“等我工作后，每月都给父母生活费就行了。”只是每月给父母生活费就是孝敬父母吗？</a:t>
            </a: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4608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游  子  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慈 母 手 中 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游 子 身 上 衣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临 行 密 密 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意 恐 迟 迟 归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　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谁 言 寸 草 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报 得 三 春 晖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31600" y="404640"/>
            <a:ext cx="7898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吟   诗   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4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92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925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925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92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925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925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925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92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925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192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925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925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3840" y="5181480"/>
            <a:ext cx="87501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213080" y="1628640"/>
            <a:ext cx="367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81880" y="54936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4280"/>
            <a:ext cx="795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0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这天，湖北省江夏纸坊实验小学五年级的小红，如往常一样背着书包上学。她家住在江夏火车站附近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每天上学要穿越铁路。当时铁路上停着一列货车，小红钻进货车车底准备爬过去，不料，火车突然启动了……这一切都被不远处小红的母亲看见了，她飞奔过来，不顾一切地钻进火车底部，用身体护住女儿，火车从母女俩身上隆隆驶过！虽然母亲脚骨骨折，背部严重擦伤，但因为有了母亲的保护，女儿的命保住了。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1766880"/>
            <a:ext cx="7056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 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27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日下午，沈阳市五里河公园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男孩童童掉进鲨鱼池。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35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岁的母亲刘燕当时也顾不上将手上的相机和肩上的背包放下，直接跳入鲨鱼池中将儿子救出。刘燕在接受采访时只说了一句话：“儿子就是妈妈的全部。”</a:t>
            </a:r>
            <a:r>
              <a:rPr b="0" lang="zh-CN" sz="4400" spc="-1" strike="noStrike">
                <a:solidFill>
                  <a:srgbClr val="00ff00"/>
                </a:solidFill>
                <a:latin typeface="Times New Roman"/>
              </a:rPr>
              <a:t> 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81880" y="692280"/>
            <a:ext cx="13993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品 事 迹    说 体 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10240" y="1150920"/>
            <a:ext cx="13993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 心 愿   诉 心 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50920" y="1700280"/>
            <a:ext cx="66978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同学们听听父母的心声</a:t>
            </a:r>
            <a:endParaRPr b="0" lang="en-US" sz="1800" spc="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416400">
            <a:off x="3564000" y="544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416400">
            <a:off x="3708360" y="429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 rot="416400">
            <a:off x="684360" y="537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416400">
            <a:off x="8388360" y="5157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 rot="21388800">
            <a:off x="6587640" y="1844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 rot="21304800">
            <a:off x="6084720" y="141264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 rot="20129400">
            <a:off x="4642920" y="1557000"/>
            <a:ext cx="574920" cy="54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 rot="21304800">
            <a:off x="3132000" y="594972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 rot="20112000">
            <a:off x="1258920" y="504180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 rot="21304800">
            <a:off x="1187280" y="54900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 rot="20050800">
            <a:off x="6357960" y="4090680"/>
            <a:ext cx="576360" cy="54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 rot="21304800">
            <a:off x="4932360" y="404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 rot="21304800">
            <a:off x="3564000" y="980640"/>
            <a:ext cx="576360" cy="5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 rot="21304800">
            <a:off x="8388360" y="62028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"/>
          <a:stretch/>
        </p:blipFill>
        <p:spPr>
          <a:xfrm rot="21304800">
            <a:off x="7956720" y="3933360"/>
            <a:ext cx="502920" cy="47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7"/>
          <a:stretch/>
        </p:blipFill>
        <p:spPr>
          <a:xfrm rot="21304800">
            <a:off x="7812000" y="602100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8"/>
          <a:stretch/>
        </p:blipFill>
        <p:spPr>
          <a:xfrm rot="21304800">
            <a:off x="5789160" y="371772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9"/>
          <a:stretch/>
        </p:blipFill>
        <p:spPr>
          <a:xfrm rot="21304800">
            <a:off x="4572000" y="4508280"/>
            <a:ext cx="503280" cy="477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 rot="21304800">
            <a:off x="2700360" y="4941360"/>
            <a:ext cx="503280" cy="47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 rot="416400">
            <a:off x="3995640" y="14839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 rot="328800">
            <a:off x="7524360" y="2060280"/>
            <a:ext cx="106668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3"/>
          <a:stretch/>
        </p:blipFill>
        <p:spPr>
          <a:xfrm rot="416400">
            <a:off x="2967120" y="3984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 rot="416400">
            <a:off x="6948360" y="4365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 rot="416400">
            <a:off x="5940360" y="5084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6"/>
          <a:stretch/>
        </p:blipFill>
        <p:spPr>
          <a:xfrm rot="19957800">
            <a:off x="655560" y="1663200"/>
            <a:ext cx="531720" cy="644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578720" cy="868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580000" y="5711760"/>
            <a:ext cx="230508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757080" y="-1467000"/>
            <a:ext cx="1055052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150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19609800">
            <a:off x="582480" y="1778040"/>
            <a:ext cx="720720" cy="787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567360" y="476280"/>
            <a:ext cx="1826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诉    心    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58920" y="1413000"/>
            <a:ext cx="75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爸爸妈妈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_______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437080" y="4282920"/>
            <a:ext cx="3167280" cy="2241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11280" y="3456000"/>
            <a:ext cx="432108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3:42:55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22:35Z</dcterms:modified>
  <cp:revision>115</cp:revision>
  <dc:subject>主题班会课件(分28大类): http://shop62905894.taobao.com</dc:subject>
  <dc:title>主题班会课件(分28大类): http://shop62905894.taobao.com</dc:title>
</cp:coreProperties>
</file>